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7AF42-D885-4F61-B2C3-BDF892716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9BC4D-7D5D-4DEF-B757-99B962C6A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C2B5F-DC77-489E-9FC7-C2E8298BE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DA256-F39A-4EA7-AA73-7195BBB06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1A4A7-DE19-44F8-B116-82DF9EE0B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8A4A3-4B1C-4935-98A4-C38B9705D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C6C85-FD56-4394-8451-A838D465D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31F77-79C4-49C8-B3BD-3BE1BC39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E5CBB-0223-4001-895D-C329DC605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13A10-AE29-4CE3-9B3C-5CF5192A4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21FDD-271C-464F-B014-69B8AD81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9BF28-0E9E-4AD2-A40E-9C2430CC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A5AB9-86B8-403A-B778-7CC37D864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C8431-B050-42F9-91ED-81361779D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B5992-5547-4EE2-B57E-DF8E8908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5325D-F3B2-4A86-86DE-AFE1F613F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E3E60-FFFF-427F-AF15-FB4938EA1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225DD-E128-4468-AFFE-35AF691BA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BDA6-F662-4E97-B705-2842C783C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A505D-24D0-494F-BFC8-C347B1F42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3A03F-23E5-412E-AC34-9CC25CD99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1AA0-8CDC-49D6-9245-9067E0D4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9471-5291-4CB8-A419-3472E9C7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1F2B-78E7-4A51-B569-F5EE26FC4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27920" indent="-280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199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681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360" y="6629040"/>
            <a:ext cx="21337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2285640" y="6629040"/>
            <a:ext cx="4876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8076960" y="6629040"/>
            <a:ext cx="10666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1CC7-2FF3-4019-86A8-F5B4BF0D0EEA}" type="slidenum">
              <a:rPr b="0" lang="en-AU" sz="1200" spc="-1" strike="noStrike">
                <a:solidFill>
                  <a:srgbClr val="000000"/>
                </a:solidFill>
                <a:latin typeface="Verdana"/>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27920" indent="-280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199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681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60A0-9B82-4B41-9A78-AC7A23F67C97}" type="slidenum">
              <a:rPr b="0" lang="en-AU"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557360"/>
            <a:ext cx="777240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Times New Roman"/>
              </a:rPr>
              <a:t>Connective Tissues of the Human Body</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549000"/>
            <a:ext cx="7772400" cy="60483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earing of the anterior cruciate ligament is a very common sporting injury. An ACL tear can happen when you change direction rapidly, slow down when running, land after a jump, or receive a direct blow to your kne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juries to the posterior cruciate ligament are less common. They can result if your knee is over-straightened or over-flexed (bent too strongly), or the shin is forced backward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 tear of the anterior cruciate ligament tends to be a more serious injury than an equivalent tear to any of the other knee ligaments, as joint stability is more profoundly affected, and surgery is often necessar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artial or even complete tears of the posterior cruciate or the collateral ligaments can often heal with a prescribed rehabilitation programme. However, if more than one ligament is injured, surgery is often need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Times New Roman"/>
              </a:rPr>
              <a:t>Muscular system</a:t>
            </a:r>
            <a:br>
              <a:rPr sz="5400"/>
            </a:br>
            <a:r>
              <a:rPr b="0" lang="en-AU" sz="4000" spc="-1" strike="noStrike">
                <a:solidFill>
                  <a:srgbClr val="000000"/>
                </a:solidFill>
                <a:latin typeface="Times New Roman"/>
              </a:rPr>
              <a:t>Functions</a:t>
            </a:r>
            <a:br>
              <a:rPr sz="4000"/>
            </a:br>
            <a:endParaRPr b="0" lang="en-US" sz="4000" spc="-1" strike="noStrike">
              <a:solidFill>
                <a:srgbClr val="000000"/>
              </a:solidFill>
              <a:latin typeface="Times New Roman"/>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human body has over 600 muscles. These </a:t>
            </a:r>
            <a:r>
              <a:rPr b="1" lang="en-AU" sz="2000" spc="-1" strike="noStrike">
                <a:solidFill>
                  <a:srgbClr val="000000"/>
                </a:solidFill>
                <a:latin typeface="Times New Roman"/>
              </a:rPr>
              <a:t>muscles function </a:t>
            </a:r>
            <a:r>
              <a:rPr b="0" lang="en-AU" sz="2000" spc="-1" strike="noStrike">
                <a:solidFill>
                  <a:srgbClr val="000000"/>
                </a:solidFill>
                <a:latin typeface="Times New Roman"/>
              </a:rPr>
              <a:t>to allow a range of physical movements that we either consciously or subconsciously contro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se movements range from fine motor skills such as blinking an eye or writing, to gross body movements such as sprinting or throwing a ball (see chapters 1 and 3 for more information on skilled movemen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body’s health relies on essential subconscious movements that need muscle effort; for example, the </a:t>
            </a:r>
            <a:r>
              <a:rPr b="1" lang="en-AU" sz="2000" spc="-1" strike="noStrike">
                <a:solidFill>
                  <a:srgbClr val="000000"/>
                </a:solidFill>
                <a:latin typeface="Times New Roman"/>
              </a:rPr>
              <a:t>diaphragm </a:t>
            </a:r>
            <a:r>
              <a:rPr b="0" lang="en-AU" sz="2000" spc="-1" strike="noStrike">
                <a:solidFill>
                  <a:srgbClr val="000000"/>
                </a:solidFill>
                <a:latin typeface="Times New Roman"/>
              </a:rPr>
              <a:t>and </a:t>
            </a:r>
            <a:r>
              <a:rPr b="1" lang="en-AU" sz="2000" spc="-1" strike="noStrike">
                <a:solidFill>
                  <a:srgbClr val="000000"/>
                </a:solidFill>
                <a:latin typeface="Times New Roman"/>
              </a:rPr>
              <a:t>intercostal muscles </a:t>
            </a:r>
            <a:r>
              <a:rPr b="0" lang="en-AU" sz="2000" spc="-1" strike="noStrike">
                <a:solidFill>
                  <a:srgbClr val="000000"/>
                </a:solidFill>
                <a:latin typeface="Times New Roman"/>
              </a:rPr>
              <a:t>help breathing, while muscular contractions around the intestines aids in the movement of food throughout the digestive trac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36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he digestive tract</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2627280" y="762120"/>
            <a:ext cx="4106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dequate posture</a:t>
            </a:r>
            <a:endParaRPr b="0" lang="en-US" sz="4400" spc="-1" strike="noStrike">
              <a:solidFill>
                <a:srgbClr val="000000"/>
              </a:solidFill>
              <a:latin typeface="Times New Roman"/>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uscles are continually in a state of ‘tone’ that affects their ability to help our body to maintain an upright posture when awake and to function safely during sleep.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eople with poor muscle tone generally have poor posture and resultant aches and pains because gravity is defeating the muscles’ resistanc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uscles of the upper back — such as the trapezius, rhomboids and the latissimus dorsi — particularly influence posture maintenan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egular exercise helps improve muscle tone, which allows resting muscles to resist being stretched and keeps them in constant readines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1476360" y="4680"/>
            <a:ext cx="4761000" cy="685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ypes of connective tissues</a:t>
            </a:r>
            <a:endParaRPr b="0" lang="en-US" sz="4400" spc="-1" strike="noStrike">
              <a:solidFill>
                <a:srgbClr val="000000"/>
              </a:solidFill>
              <a:latin typeface="Times New Roman"/>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GAMENT:  Connects muscle to bone to allow movement across the joi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NDON: Connects bone to bone, holds the bones in place and provides stability to the joi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OINT CAPSULE: Contains the fluid at the joint surface which lubricates the joint while it is 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
          <p:cNvPicPr/>
          <p:nvPr/>
        </p:nvPicPr>
        <p:blipFill>
          <a:blip r:embed="rId1"/>
          <a:stretch/>
        </p:blipFill>
        <p:spPr>
          <a:xfrm>
            <a:off x="1042920" y="765000"/>
            <a:ext cx="7164360" cy="546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1600200"/>
            <a:ext cx="8229600" cy="4525920"/>
          </a:xfrm>
          <a:prstGeom prst="rect">
            <a:avLst/>
          </a:prstGeom>
          <a:ln w="0">
            <a:noFill/>
          </a:ln>
        </p:spPr>
      </p:pic>
      <p:pic>
        <p:nvPicPr>
          <p:cNvPr id="87" name="Picture 4" descr=""/>
          <p:cNvPicPr/>
          <p:nvPr/>
        </p:nvPicPr>
        <p:blipFill>
          <a:blip r:embed="rId2"/>
          <a:stretch/>
        </p:blipFill>
        <p:spPr>
          <a:xfrm>
            <a:off x="250920" y="981000"/>
            <a:ext cx="8642160" cy="51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Connective Tissue</a:t>
            </a:r>
            <a:endParaRPr b="0" lang="en-US" sz="4400" spc="-1" strike="noStrike">
              <a:solidFill>
                <a:srgbClr val="000000"/>
              </a:solidFill>
              <a:latin typeface="Times New Roman"/>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knee is the largest joint in your body, forming a hinge between your thigh bone (femur) above and the bones of your lower leg — the tibia (shin bone) and fibula, below.</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trong bands of fibrous tissue called ligaments help stabilise the knee joint and align the bones that meet at the kne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re are 2 main sets of ligaments in the knee joint: the collateral ligaments, which run along either side of your knee joint, and the cruciate ligaments, which sit inside your knee joi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5092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836280"/>
            <a:ext cx="7772400" cy="5761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llateral ligaments</a:t>
            </a:r>
            <a:br>
              <a:rPr sz="2400"/>
            </a:br>
            <a:r>
              <a:rPr b="0" lang="en-AU" sz="2400" spc="-1" strike="noStrike">
                <a:solidFill>
                  <a:srgbClr val="000000"/>
                </a:solidFill>
                <a:latin typeface="Times New Roman"/>
              </a:rPr>
              <a:t>The lateral collateral ligament strengthens the knee joint on the outer side of the knee. It runs between your thigh bone (femur) and the top of your fibula — the long, thin bone on the outside of your main shin b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medial collateral ligament strengthens the knee joint on the inner side of the knee. It runs between your femur and the upper inside edge of your shin bone (tib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ogether the collateral ligaments resist side-to-side movement of the knee joint and help prevent rotation between your thigh bone and your sh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765000"/>
            <a:ext cx="7772400" cy="53308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lateral collateral ligament can be torn when your knee twists, is hit on the inner side, or is forced outwards while your foot is pushed inwards. A lateral collateral ligament tear rarely occurs on its own, and usually accompanies a tear to other knee liga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ars to the medial collateral ligament are relatively common and can arise from a direct hit to your knee, twisting of your knee, or a force that pushes your foot outwards and your knee inward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11280" y="1453680"/>
            <a:ext cx="7772400" cy="54039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Cruciate ligaments</a:t>
            </a:r>
            <a:br>
              <a:rPr sz="2000"/>
            </a:br>
            <a:r>
              <a:rPr b="0" lang="en-AU" sz="2000" spc="-1" strike="noStrike">
                <a:solidFill>
                  <a:srgbClr val="000000"/>
                </a:solidFill>
                <a:latin typeface="Times New Roman"/>
              </a:rPr>
              <a:t>The cruciate ligaments are short strong bands of fibrous tissue that cross each other inside your knee joint and join your tibia to your femur. They are named according to where they attach on the top of the tibi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anterior cruciate ligament (ACL) runs from the front of your tibia, backwards and slightly outwards, to the base of your femur. This ligament stops your shin bone from moving forwards in front of your thigh bo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posterior cruciate ligament (PCL) runs from the rear of your tibia, forwards and slightly inwards, to the base of your femur. This ligament stops your shin bone from moving backwards, relative to your thigh bone. It is generally stronger than the AC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2:00:36Z</dcterms:created>
  <dc:creator>gary lewis</dc:creator>
  <dc:description/>
  <dc:language>en-US</dc:language>
  <cp:lastModifiedBy>Lyn Clarkson</cp:lastModifiedBy>
  <dcterms:modified xsi:type="dcterms:W3CDTF">2009-10-20T21:56:03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